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9D30-B50B-4821-92AD-1F61171F5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9F44-0A39-4007-8323-403B4160AA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urface Exploration of Mars: Past &amp;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Meteo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M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Surface 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king Landers (early 8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finder (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urface Explorers (three en rout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of Martian Exploration (“astrobiology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2958-5B42-45BF-BCA5-9CBA0D23A7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s has a very thin atmosphere and no magnetosp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humans populated the Martian surface, what environ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lems will they be concerned abou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Solar flare particles and ultraviolet rad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Nitrogen poiso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Lead contamination from volcano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Magnetic anomalies in the interior causing brain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392E-EBA2-4C5F-B581-243100874A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Pathfinder Mission – landed on Mars 4 July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missio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Better Cheap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man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lightweight airb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effici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x as many image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issions (compu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d 500 mile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s – flood pla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olcanic rocks with silic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366F-B489-4FA8-8042-BF4B390CE9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oramic View from Mars’ Pathfinder’s  Sojourner R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F8AE-34EE-4552-90AF-784A37729C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A: MARS EXPLORATION RO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&amp; Spirit (or MER A and MER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A: MARS EXPLORATION RO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&amp; Spirit (or MER A and MER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in June and July of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l at Mars – Januar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over weighs 180 kg, is ~5 ft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face exploration: travels 100m pe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286B-8F0A-466E-A5BF-1B854C4339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2997-A18D-44F9-A2CC-4F6FF4AED1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oon of the “airbag” landing of the Mars Exploration Rovers on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D07C-D1AE-42CB-91A4-B02EA2FAB2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ing a site to land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not just land anywhere – need to consider the safety of the vesse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7DD4-F63D-4600-BB78-99C2F905A0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Landing Consi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titude (impossible climbs, fa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lopes (use too much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ckiness (protect airb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 panel heating – keep rover o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lar panels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T tool works more in thick 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1295-77A9-4267-A1AD-AECEB70AC7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Objectives of the MER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 a variety of rocks and soils that hold clues to past water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try to identify carbonates (indicate water-volcano cycle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 and composition of minerals, rocks, and soils near s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geologic processes have shaped the local ter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"ground truth"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 and valid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urface observations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ars orbiter instru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93A0-3356-4046-A174-28B725FB1B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loration RoMars Exploration Rover:  Science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:  Science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Panc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reo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R Spectr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ock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X-ray Spectr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soil and rock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R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ock abrasion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icroscopic ima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search for fossils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A1C1-EBA6-4BD1-844E-2B3D8D7A20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tian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se “meteorite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rocks found in Antarc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y get to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act on Mars (crater size: 10-100 km) 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Martian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se meteorites are from M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composition does not match usual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1.3 billion yrs old (most asteroid-type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lder); Higher content of volatile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n’t they orange – the color of Mars sur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o do with how the rocks we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20BC-2D8F-4B0C-9D52-41BE65DC85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ing Sites on Mars: 1. Gusev Crater - morp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5 degre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Mars’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crater feature with several ‘channels’ leading int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may have pooled in crater during first 2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062D-69E5-4C1C-B82F-504E611B8A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ing Sites on Mars: 2. Meridiani Planum - minera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egre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Mars’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side of planet from Landing Si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lace where hematite has been found (rust-like mineral)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at it is a former dried lake 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F633-686E-4E5B-BA48-E5D815FBA8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Express – European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BE70-91E0-4969-ACD9-581A3B2BA6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June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instrument (MARSIS) built at University of Iowa (Prof. D. Gurnett, P.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, including a small rover called “Beagle 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A5FB-4A8D-4163-B169-C8373392C2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: Rada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reflection signal of water is very different from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hoes can differentiate between rock and ice o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transmitter operates at 1-2 MHz  and penetrates ground to several km dep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cannot distinguish between C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79A4-7E6B-42BC-AB9D-5223921A98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A267-AC87-430C-A986-85E28EB568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s Surface Exploration –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C956-49F1-498B-821A-6489E81878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s Surface Exploration –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F548-052C-427B-9C87-C91FBF4E90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Mars Exploration: “Scout Miss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/efficient ball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et of small aircraft to explore M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new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AMPLE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A0FD-0CEF-4F7F-A578-CE2EEC6F6B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Outpost: 20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2566-35D1-4D2E-8D91-B57D88B6E6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What DO they tell 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cesses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st/core developed early in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canism until &lt; 1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han normal asteroid (meteorite) co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on with 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atmosphere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N’T they tell 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origin (on Mars – which part of surfac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about Mars’ water &amp;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actuall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CKS from Mar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: Martian Rock ALH84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.9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Antarctica (easier to find)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d on Mars 4.5 Billion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cted ~16 Million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d ~13,000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9E2D-A3F3-49C0-B6DE-34788B7DA6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5FCE-97A5-4E5B-8C13-2B5BBEDA7A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 – microbial presence in meteorit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trobiology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citing field of research – study of origin of life in the solar system,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FE IS UBIQUITOUS in the universe – we just haven’t found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FE IS A SPECIAL quirk of nature and timing – very very ra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80A4-7BFD-468D-8027-4628178DC6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ons: Deimos, Phob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(~20km) irregularly sha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 Mars in 8hr, 30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captured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E25D-53CD-4871-ACD2-65DD9C20D5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s of Solar System 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PROS for Spac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st views of the pla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a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wavelengths that are unavailable on the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ospheric effects gone – get clearer views than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 of sophisticated tech. an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CONS for Spac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not fix/test equipment as eas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risk with rocket la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h much more costly! (although more costly for manned than unman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time is usually sho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grades much mo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s from UV radiation,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8060-BCE7-461E-B56D-7298AB50B4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s 1 and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1 launched in August of 1975, Viking 2 launched in Sept. 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s arrived at Mars in June, August of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er + Lander – Orbiters alone weighed close to a ½ ton eac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ry expensive launch/rocket equipment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se days NASA’s mantra: “Faster Better Cheaper”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6813-5A2D-4662-9757-1E496A6EDC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 Images of Mars’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ing site chosen from Orbiter images – two different regions in Northern Lowla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aled that the surface of Mars was littered with jagged rocks and fine dus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s were probably result of crater-forming impact (“eject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s resemble lava-rocks on Earth – lava flows broken up by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737E-E921-439D-B34C-BB448225EC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s: Search for Life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ience Instrume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 l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explore reactions of Mars rock with water (none det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op arm with magnet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und that the soil was IRON-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to study only one part of Martian surface – its la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ired NASA to propose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s with MOVING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s –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thfinder 1997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C1F-DE50-41FD-8981-99665EB5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BB3-EB4D-4369-AE9E-0456094F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080-B45E-4155-A7CA-C6CE671A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B906-59F5-4B11-8807-CA1522D3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0D0-268B-4859-AD25-8CA15BC4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E72-0F3B-49AE-A772-DEC1EDFB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837-85E9-4C06-B728-882CDCC5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A46-BBB6-4F7A-B735-0E4860F8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76C-89CA-4936-BE33-0FABFCB2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93AF-D0D8-41AA-B617-190CB945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81D-BBD1-41A3-A47C-9F1DB7C0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1D7-7FE9-4BE6-96C0-4CCC4CF3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DB45-3687-4311-B424-A08D14D974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522B-C7AB-4631-9284-C5C1BCE5A5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80880" y="228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Surface Exploration of Mars: Past &amp; Fu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64400" y="1143000"/>
            <a:ext cx="68634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Meteor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Mo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Surface Expl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iking Landers (early 80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hfinder (199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Surface Explorers (three en route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ture of Martian Exploration (“astrobiology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373760" y="5105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view of M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6CCA-7C35-4C05-A4BF-2D0C737F48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90720" y="198108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6698-28C3-42FB-8378-CDC4579440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pathfinder"/>
          <p:cNvPicPr/>
          <p:nvPr/>
        </p:nvPicPr>
        <p:blipFill>
          <a:blip r:embed="rId1"/>
          <a:stretch/>
        </p:blipFill>
        <p:spPr>
          <a:xfrm>
            <a:off x="304920" y="1143000"/>
            <a:ext cx="5410080" cy="52419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31360" y="380880"/>
            <a:ext cx="80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Pathfinder Mission – landed on Mars 4 July 19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934240" y="1347840"/>
            <a:ext cx="331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onstration mission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ster Better Cheaper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SA mant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d lightweight airb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, efficient rob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x as many images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vious missions (compu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ed 500 miles fro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kings – flood plain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olcanic rocks with silic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7572-5F82-44BB-BD34-C9795ADFB7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mars_pathfinder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930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1137600" y="5334120"/>
            <a:ext cx="75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noramic View from Mars’ Pathfinder’s  Sojourner Rov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E391-F45A-4FAA-9AA3-1A69ED1881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A: MARS EXPLORATION ROV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&amp; Spirit (or MER A and MER B)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9" name="Picture 3" descr="Image 5"/>
          <p:cNvPicPr/>
          <p:nvPr/>
        </p:nvPicPr>
        <p:blipFill>
          <a:blip r:embed="rId1"/>
          <a:stretch/>
        </p:blipFill>
        <p:spPr>
          <a:xfrm>
            <a:off x="2895480" y="1447920"/>
            <a:ext cx="5715000" cy="427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0" name="Text Box 4"/>
          <p:cNvSpPr/>
          <p:nvPr/>
        </p:nvSpPr>
        <p:spPr>
          <a:xfrm>
            <a:off x="0" y="1523880"/>
            <a:ext cx="2971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unched in June and July of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ival at Mars – January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Rover weighs 180 kg, is ~5 ft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exploration: travels 100m per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Comment 5"/>
          <p:cNvSpPr/>
          <p:nvPr/>
        </p:nvSpPr>
        <p:spPr>
          <a:xfrm>
            <a:off x="3581280" y="1981080"/>
            <a:ext cx="8985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4572000" y="2438280"/>
            <a:ext cx="762120" cy="68580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0779-4683-4B3F-86D8-B5FD123A8C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594480"/>
          </a:xfrm>
          <a:prstGeom prst="rect">
            <a:avLst/>
          </a:prstGeom>
          <a:ln w="0">
            <a:noFill/>
          </a:ln>
        </p:spPr>
      </p:pic>
      <p:sp>
        <p:nvSpPr>
          <p:cNvPr id="158" name="Comment 4"/>
          <p:cNvSpPr/>
          <p:nvPr/>
        </p:nvSpPr>
        <p:spPr>
          <a:xfrm>
            <a:off x="457200" y="5943600"/>
            <a:ext cx="2362320" cy="703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s Rover Entry Seq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edl_06"/>
          <p:cNvPicPr/>
          <p:nvPr/>
        </p:nvPicPr>
        <p:blipFill>
          <a:blip r:embed="rId2"/>
          <a:stretch/>
        </p:blipFill>
        <p:spPr>
          <a:xfrm>
            <a:off x="5486400" y="457200"/>
            <a:ext cx="3657600" cy="270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C91A-6CBE-4761-B606-FDD4F5C1D9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mer_airba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910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982800" y="68580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toon of the “airbag” landing of the Mars Exploration Rovers on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E20B-2086-4670-9147-26FB9ADFD4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828080" y="304920"/>
            <a:ext cx="47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ing a site to land on M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mola_landscape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3354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71520" y="548640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not just land anywhere – need to consider the safety of the vesse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35920" y="5919840"/>
            <a:ext cx="60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previous missions have landed in the northern lowl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51E4-339F-4925-8322-E80B5ACB9C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12560" y="254160"/>
            <a:ext cx="56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Mars Landing Consid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62120" y="14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190880" y="1147680"/>
            <a:ext cx="7497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er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ltitude (impossible climbs, fal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lopes (use too much energ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ockiness (protect airba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olar panel heating – keep rover ope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olar panels cl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AT tool works more in thick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2D09-0C49-480A-9415-27A44C1D1E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213560" y="304920"/>
            <a:ext cx="66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cience Objectives of the MER 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03520" y="1081080"/>
            <a:ext cx="82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acterize a variety of rocks and soils that hold clues to past water activ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.e. try to identify carbonates (indicate water-volcano cycle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818280" y="2056320"/>
            <a:ext cx="73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tion and composition of minerals, rocks, and soils near si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838080" y="27421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rmine geologic processes have shaped the local terra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906840" y="3427920"/>
            <a:ext cx="322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form "ground truth"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ibration and validation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surface observations ma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y Mars orbiter instrume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rover1_400"/>
          <p:cNvPicPr/>
          <p:nvPr/>
        </p:nvPicPr>
        <p:blipFill>
          <a:blip r:embed="rId1"/>
          <a:stretch/>
        </p:blipFill>
        <p:spPr>
          <a:xfrm>
            <a:off x="4648320" y="3352680"/>
            <a:ext cx="3962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E150-D3F4-4CE9-8D41-67E058B00C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Exploration Rover:  Science Instrum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3520" y="19810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1828800"/>
            <a:ext cx="3124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Panca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tereo cam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IR Spectrome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ck 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X-ray Spectrome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soil and rock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R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ck abrasion t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icroscopic ima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search for fossils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rover_labelled"/>
          <p:cNvPicPr/>
          <p:nvPr/>
        </p:nvPicPr>
        <p:blipFill>
          <a:blip r:embed="rId1"/>
          <a:stretch/>
        </p:blipFill>
        <p:spPr>
          <a:xfrm>
            <a:off x="2971800" y="1012680"/>
            <a:ext cx="61722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8495-D6CD-4C9D-9873-B3BBDBA65B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2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5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D623-DE87-4F0B-BBD8-8A3674A158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304920"/>
            <a:ext cx="861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ing Sites on Mars: 1. Gusev Crater - morpho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15 degrees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uth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of Mars’ equ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large crater feature with several ‘channels’ leading in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water may have pooled in crater during first 2 billion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3" descr="landing_spots"/>
          <p:cNvPicPr/>
          <p:nvPr/>
        </p:nvPicPr>
        <p:blipFill>
          <a:blip r:embed="rId1"/>
          <a:stretch/>
        </p:blipFill>
        <p:spPr>
          <a:xfrm>
            <a:off x="2057400" y="1905120"/>
            <a:ext cx="5486400" cy="4389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5409720" y="47242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hanne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1A6D-BB83-47F4-94F6-A0DED736BE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228600" y="228600"/>
            <a:ext cx="8915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ing Sites on Mars: 2. Meridiani Planum - minera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2 degrees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uth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of Mars’ equ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other side of planet from Landing Sit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place where hematite has been found (rust-like mineral) –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indicates that it is a former dried lake b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hematiteMap2"/>
          <p:cNvPicPr/>
          <p:nvPr/>
        </p:nvPicPr>
        <p:blipFill>
          <a:blip r:embed="rId1"/>
          <a:stretch/>
        </p:blipFill>
        <p:spPr>
          <a:xfrm>
            <a:off x="457200" y="2209680"/>
            <a:ext cx="4010040" cy="4267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landing_two"/>
          <p:cNvPicPr/>
          <p:nvPr/>
        </p:nvPicPr>
        <p:blipFill>
          <a:blip r:embed="rId2"/>
          <a:stretch/>
        </p:blipFill>
        <p:spPr>
          <a:xfrm>
            <a:off x="4572000" y="3048120"/>
            <a:ext cx="4419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6C5C-3173-4910-900E-97B98D352A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Express – European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mars_express"/>
          <p:cNvPicPr/>
          <p:nvPr/>
        </p:nvPicPr>
        <p:blipFill>
          <a:blip r:embed="rId1"/>
          <a:stretch/>
        </p:blipFill>
        <p:spPr>
          <a:xfrm>
            <a:off x="685800" y="914400"/>
            <a:ext cx="784872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1563-EFE3-4DC4-AB4B-73E3A2490D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S EXPRES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Picture 4" descr="30815"/>
          <p:cNvPicPr/>
          <p:nvPr/>
        </p:nvPicPr>
        <p:blipFill>
          <a:blip r:embed="rId1"/>
          <a:stretch/>
        </p:blipFill>
        <p:spPr>
          <a:xfrm>
            <a:off x="3733920" y="1447920"/>
            <a:ext cx="5143320" cy="514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16" name="Text Box 5"/>
          <p:cNvSpPr/>
          <p:nvPr/>
        </p:nvSpPr>
        <p:spPr>
          <a:xfrm>
            <a:off x="0" y="1447920"/>
            <a:ext cx="3505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unched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ar instrument (MARSIS) built at University of Iowa (Prof. D. Gurnett, P.I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instruments, including a small rover called “Beagle 2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C861-B83F-483D-B380-8601ACD0D0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S EXPRESS: Radar Experiment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0" y="1600200"/>
            <a:ext cx="350532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ar reflection signal of water is very different from r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choes can differentiate between rock and ice or 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ar transmitter operates at 1-2 MHz  and penetrates ground to several km dep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ly cannot distinguish between 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4" descr="30818"/>
          <p:cNvPicPr/>
          <p:nvPr/>
        </p:nvPicPr>
        <p:blipFill>
          <a:blip r:embed="rId1"/>
          <a:stretch/>
        </p:blipFill>
        <p:spPr>
          <a:xfrm>
            <a:off x="3733920" y="1295280"/>
            <a:ext cx="5143320" cy="5143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2838-761B-4A40-AF14-A24A82A0BA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3" descr="21915_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5B6D-EBF6-4E75-9D26-6B4F69F0B7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2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1592280" y="38088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s Surface Exploration – the Fu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E14D-769A-4F86-8DDD-C24B76254C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1440000" y="38088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s Surface Exploration – the Fu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4F66-8514-4CED-8880-43B71D6754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79320" y="304920"/>
            <a:ext cx="72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Mars Exploration: “Scout Mission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5" descr="balloons_mars"/>
          <p:cNvPicPr/>
          <p:nvPr/>
        </p:nvPicPr>
        <p:blipFill>
          <a:blip r:embed="rId1"/>
          <a:stretch/>
        </p:blipFill>
        <p:spPr>
          <a:xfrm>
            <a:off x="1066680" y="1219320"/>
            <a:ext cx="1764000" cy="5181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mars_airplanes"/>
          <p:cNvPicPr/>
          <p:nvPr/>
        </p:nvPicPr>
        <p:blipFill>
          <a:blip r:embed="rId2"/>
          <a:stretch/>
        </p:blipFill>
        <p:spPr>
          <a:xfrm>
            <a:off x="3657600" y="2743200"/>
            <a:ext cx="4857840" cy="3352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3"/>
          <p:cNvSpPr/>
          <p:nvPr/>
        </p:nvSpPr>
        <p:spPr>
          <a:xfrm>
            <a:off x="4029120" y="1042920"/>
            <a:ext cx="421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weight/efficient ball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et of small aircraft to explore Ma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new 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so SAMPLE RETU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7882-872C-4C5E-9205-AFC1D8EB31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6" descr="mars_outpost"/>
          <p:cNvPicPr/>
          <p:nvPr/>
        </p:nvPicPr>
        <p:blipFill>
          <a:blip r:embed="rId1"/>
          <a:stretch/>
        </p:blipFill>
        <p:spPr>
          <a:xfrm>
            <a:off x="175248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2057400" y="533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tian Outpost: 20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814D-6C79-43EE-838D-C969E68E4A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353400" y="458640"/>
            <a:ext cx="6037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than normal asteroid (meteorite) 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925440" y="2514600"/>
            <a:ext cx="52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tion of origin (on Mars – which part of surface?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ed to actuall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OCKS from Mars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BC5F-67CA-4C38-A7BD-B14CABA175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4" descr="mars_explore"/>
          <p:cNvPicPr/>
          <p:nvPr/>
        </p:nvPicPr>
        <p:blipFill>
          <a:blip r:embed="rId1"/>
          <a:stretch/>
        </p:blipFill>
        <p:spPr>
          <a:xfrm>
            <a:off x="0" y="45720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9A97-6D60-4733-AE06-E9F9B1633D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84" name="Picture 3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5" name="Text Box 4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6782040" cy="4570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836640" y="22860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447920" y="10666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71160" y="5562720"/>
            <a:ext cx="86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strobiology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xciting field of research – study of origin of life in the solar system,uni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 LIFE IS UBIQUITOUS in the universe – we just haven’t found 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 LIFE IS A SPECIAL quirk of nature and timing – very very ra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8801-D0DD-41D1-8097-1749B61A11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f854a81-3"/>
          <p:cNvPicPr/>
          <p:nvPr/>
        </p:nvPicPr>
        <p:blipFill>
          <a:blip r:embed="rId1"/>
          <a:stretch/>
        </p:blipFill>
        <p:spPr>
          <a:xfrm>
            <a:off x="609480" y="609480"/>
            <a:ext cx="4637160" cy="5181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9072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bos (20 km x 27 k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5715000" y="3276720"/>
            <a:ext cx="3200400" cy="3358800"/>
            <a:chOff x="5715000" y="3276720"/>
            <a:chExt cx="3200400" cy="3358800"/>
          </a:xfrm>
        </p:grpSpPr>
        <p:pic>
          <p:nvPicPr>
            <p:cNvPr id="97" name="Picture 5" descr="Eros Feb 25 2000"/>
            <p:cNvPicPr/>
            <p:nvPr/>
          </p:nvPicPr>
          <p:blipFill>
            <a:blip r:embed="rId2"/>
            <a:stretch/>
          </p:blipFill>
          <p:spPr>
            <a:xfrm>
              <a:off x="6248520" y="3276720"/>
              <a:ext cx="2230200" cy="2438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98" name="Text Box 6"/>
            <p:cNvSpPr/>
            <p:nvPr/>
          </p:nvSpPr>
          <p:spPr>
            <a:xfrm>
              <a:off x="5715000" y="5850000"/>
              <a:ext cx="3200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mparison: Asteroid Ero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33 km x 13 km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556272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an Mo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33520" y="1523880"/>
            <a:ext cx="4762440" cy="3324240"/>
            <a:chOff x="533520" y="1523880"/>
            <a:chExt cx="4762440" cy="3324240"/>
          </a:xfrm>
        </p:grpSpPr>
        <p:pic>
          <p:nvPicPr>
            <p:cNvPr id="101" name="Picture 9" descr="Deimos"/>
            <p:cNvPicPr/>
            <p:nvPr/>
          </p:nvPicPr>
          <p:blipFill>
            <a:blip r:embed="rId3"/>
            <a:stretch/>
          </p:blipFill>
          <p:spPr>
            <a:xfrm>
              <a:off x="533520" y="1523880"/>
              <a:ext cx="4762440" cy="3324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2" name="Text Box 10"/>
            <p:cNvSpPr/>
            <p:nvPr/>
          </p:nvSpPr>
          <p:spPr>
            <a:xfrm>
              <a:off x="4038480" y="4343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eim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Text Box 11"/>
          <p:cNvSpPr/>
          <p:nvPr/>
        </p:nvSpPr>
        <p:spPr>
          <a:xfrm>
            <a:off x="5486400" y="990720"/>
            <a:ext cx="36576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moons: Deimos, Phob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 (~20km) irregularly sha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bit Mars in 8hr, 30h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ly captured astero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дати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DC6D-29EE-48F5-967A-B96CA70961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449000" y="228600"/>
            <a:ext cx="59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Risks of Solar System Mis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PROS for Space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osest views of the plan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are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ss to wavelengths that are unavailable on the 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ic effects gone – get clearer views than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sophisticated tech. and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CONS for Space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not fix/test equipment as eas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risk with rocket lau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ch much more costly! (although more costly for manned than unman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fetime is usually sh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grades much more diffic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sks from UV radiation, cosmic r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AA3B-7912-44EA-A5F3-1F8D93184E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905120" y="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s 1 and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12" descr="viking_lander_model"/>
          <p:cNvPicPr/>
          <p:nvPr/>
        </p:nvPicPr>
        <p:blipFill>
          <a:blip r:embed="rId1"/>
          <a:stretch/>
        </p:blipFill>
        <p:spPr>
          <a:xfrm>
            <a:off x="990720" y="685800"/>
            <a:ext cx="6933960" cy="429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1195920" y="5219640"/>
            <a:ext cx="681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king 1 launched in August of 1975, Viking 2 launched in Sept. 19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kings arrived at Mars in June, August of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biter + Lander – Orbiters alone weighed close to a ½ ton each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ery expensive launch/rocket equipment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these days NASA’s mantra: “Faster Better Cheaper”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6BF5-767D-40F5-902B-AB389B1572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 Images of Mars’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5" descr="viking_lander_image"/>
          <p:cNvPicPr/>
          <p:nvPr/>
        </p:nvPicPr>
        <p:blipFill>
          <a:blip r:embed="rId1"/>
          <a:stretch/>
        </p:blipFill>
        <p:spPr>
          <a:xfrm>
            <a:off x="152280" y="1066680"/>
            <a:ext cx="4572000" cy="3214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80880" y="4876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ing site chosen from Orbiter images – two different regions in Northern Lowlan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vealed that the surface of Mars was littered with jagged rocks and fine dust every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cks were probably result of crater-forming impact (“ejecta”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cks resemble lava-rocks on Earth – lava flows broken up by imp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viking_lander"/>
          <p:cNvPicPr/>
          <p:nvPr/>
        </p:nvPicPr>
        <p:blipFill>
          <a:blip r:embed="rId2"/>
          <a:stretch/>
        </p:blipFill>
        <p:spPr>
          <a:xfrm>
            <a:off x="4800600" y="762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70F2-CC8E-486C-AF44-1B129CFCAE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22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s: Search for Life on M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952880" y="1143000"/>
            <a:ext cx="38862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ience Instrument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hem la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 explore reactions of Mars rock with water (none detect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coop arm with magnet 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und that the soil was IRON-r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fined to study only one part of Martian surface – its landing s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pired NASA to propose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ssions with MOVING 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s –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athfinder 1997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viking"/>
          <p:cNvPicPr/>
          <p:nvPr/>
        </p:nvPicPr>
        <p:blipFill>
          <a:blip r:embed="rId1"/>
          <a:stretch/>
        </p:blipFill>
        <p:spPr>
          <a:xfrm>
            <a:off x="838080" y="1752480"/>
            <a:ext cx="3733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04:35:25Z</dcterms:created>
  <dc:creator>clang</dc:creator>
  <dc:description/>
  <dc:language>en-US</dc:language>
  <cp:lastModifiedBy>LEGION</cp:lastModifiedBy>
  <dcterms:modified xsi:type="dcterms:W3CDTF">2015-09-04T07:51:13Z</dcterms:modified>
  <cp:revision>13</cp:revision>
  <dc:subject/>
  <dc:title>Slide 1</dc:title>
</cp:coreProperties>
</file>